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media/image8.wmf" ContentType="image/x-wmf"/>
  <Override PartName="/ppt/media/image9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</p:sldIdLst>
  <p:sldSz cx="9907588" cy="6858000"/>
  <p:notesSz cx="9871075" cy="6735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9692-F29A-4547-9B03-2DBA5D829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1C87-C7BE-4CA3-BC23-80F3318E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D7D14-CA94-4471-A017-172A799D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76BDBE-B77F-4FC3-8854-684A90B7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746280" y="569880"/>
            <a:ext cx="840240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8CC0E-D901-4768-BF8D-C9B32572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9DC90F-2EA2-4A16-9A9F-3D527647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A54A0-499B-4AEB-B52D-46A7D375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DCF752-1BBF-40D8-931A-A1C85F5A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81626-D5B9-481E-9B80-E8B519A3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6E70F-01ED-428A-A4C2-D5A4720F9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59424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43176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75708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59424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43176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BEC3E-D9A9-4C07-A768-22CC8F134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D6695-6C4C-4AF4-85D9-47043821C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A579-4EBB-4B67-A620-0959D5D25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E2D5F-ADB2-45E0-B5B5-CDE9DA2E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80FBE-936B-4286-B07C-A5762D01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740C8-FB97-4908-B5F7-B5A61914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1D8A2-44D9-456D-BEA1-79C2F0E6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746280" y="569880"/>
            <a:ext cx="840240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1148B-BFA9-40F4-9D04-DDCE855C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014EF-E528-4AEF-872E-4D9CDF8E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72BD45-DEA8-4CB6-B1BD-E9844D1B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1C2AAD-EB59-4575-A04C-2C441002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7F7B77-458A-4277-8C73-E73B8D9C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E35C26-0BD5-4A74-AB62-6E7EB147E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424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176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708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424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176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C3DF-155B-4669-B05A-103A1AA82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59424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43176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75708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59424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43176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53E5E-B131-4978-AF6F-86AE81031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4CBAC-D7CD-4F12-ACF5-E1FC45FC4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83151-BC57-49D7-B4DF-3629383F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0D2AD-BF65-4A2A-A8D7-D163BC9D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AB38A-C153-4DCD-BD72-A7733052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AEE2B-D4AC-4AE5-A85C-5CBF3C95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746280" y="569880"/>
            <a:ext cx="840240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5211E-6BD4-44F8-805C-CB6606E0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FD132-5CF7-44B2-94DC-CA0D8AA3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5F06E-7444-499F-8199-2BB44FFB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D91E27-4546-44ED-BA7E-83000604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2A71-7E4C-4993-87E3-835BABCB4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36025-0C7F-485F-8689-D4D4E692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E5CDF-F522-433A-AC0D-DC5536C8F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59424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43176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75708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59424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43176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39C28-D81F-4411-AEE8-4E1C0DEA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DD4E-C1EC-41B0-98E2-29809BA3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9494-F298-4B3B-B7B2-140D4B69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68BF-0E0D-4091-BD44-0553346C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65D2-261F-411E-81F8-21337A9B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6280" y="569880"/>
            <a:ext cx="840240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FD52-6F7D-4926-BF9E-71CDAD37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6EF7-B0CC-4F94-9BAF-E323B679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C0CE-3759-4155-AE60-28D82096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DBBD-FA1E-4C93-84A8-8A0E5ECC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D194-DA63-4FE9-9149-600CF009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DD76-6C44-4886-8D34-B3F1551F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68A3-A00E-4C78-8BC8-C4C1E36DA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9424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3176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708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9424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3176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B3F0-423F-4A9F-9264-A347C662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99449-F409-44CA-B0EA-BF1E3B0A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CC150-198B-41D5-A9B6-BF7F038B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85491-30FE-487E-BAD5-26C0D57F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68461-4FCB-4077-B88B-6AF57910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BEE22-168B-4109-91EE-F5AF9B83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666F-EBC2-4DE2-9103-5CA083E2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746280" y="569880"/>
            <a:ext cx="840240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514CD-2E74-4E5B-9489-0E3AD5C1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790E9-F229-4032-A159-E508A0AF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74207-5208-49CE-88A6-2C71464B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80D2F-2890-414B-A679-5D1E32E9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6E1B1-60C7-42AF-8E82-70269F16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233C8-609D-47D5-8A69-09BC29F88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59424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3176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75708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59424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3176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D38E7-A63F-4E40-9F44-1E5B17C6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73B05-0E26-4966-9AA6-051DB3626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7F269-A1F8-4666-B18D-3A5704A8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58EE5-9D9E-4698-A0E0-762DA5E3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4CCB-9F87-417F-A010-770A6A1E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11F22-7D8F-40D3-8194-1008A8F6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40C10-CC64-4FBA-A053-29E24DC4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746280" y="569880"/>
            <a:ext cx="840240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4F16B-1E11-44E6-844D-5261019E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C3C9A-503A-4004-831B-A465736A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CBE98-A7AE-4E53-B208-2ACD5A6C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CD64D-43AE-4771-9122-B9CD022B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0817D-CC6D-47FE-A833-A7B434BE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F12DB-6F6D-4B35-87AD-26C6B7B7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9424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43176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75708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9424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43176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6FB5C-F20D-4A61-8C49-D3DBE7C3E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907B9-7BB5-4F27-A758-168982D99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EABF-E1FB-4F2D-8A26-CD3075F5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8E003-757A-40A9-BC5B-BB4B5760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B99A8-7A63-417C-85F0-19AB6CE1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F3F5B-6530-49B1-9718-F09A2235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B55E1-8042-493D-B046-A9E9222E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746280" y="569880"/>
            <a:ext cx="840240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64FE2-2B1D-4CFF-B318-CBA38845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F31CB-B276-410C-9B6E-5E96C0EA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B2B9E-C748-478E-87A8-BA5EE602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09D9B-87DD-4D0F-82B7-572DC38D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77E77-78B9-420B-A98F-C3A4D400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DF7AA-DDA6-4B64-AB74-4DF620ECD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6280" y="569880"/>
            <a:ext cx="840240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F086-A46E-4051-8F9E-BA9237DF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424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43176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75708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424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43176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FC126-92AD-48DB-A508-66C781F21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6765F-105C-4361-A513-25527C06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8062D-E5AF-423C-A78F-2E3FE233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CB3C4-CDA2-485C-990E-0C2F2185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3684D-0B84-48A8-BD12-BA62E72C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E7971-B9E5-41B1-8207-6AC0336B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746280" y="569880"/>
            <a:ext cx="840240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E0251-18CB-4A3A-B697-5198DB52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08E70-1B21-485F-B42D-374C05CD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3A4AB-6800-43F7-8272-030D28EE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2B111-5CCE-4C94-A538-B1EA640D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04CC-A917-484D-9A6E-D910E26F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1FE46-C0F1-41E4-8A79-A17A6FDC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D4A60-F89C-4B28-BEA7-03459215D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9424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43176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75708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9424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43176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5E6A5-CA3E-4CEE-BA43-C920CBC21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9D408-48AA-4F35-9789-26E19FD2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BF0FE-8C9F-400D-9631-98B9887F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0FFAE-004E-4D49-8823-34B882D9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0C7F8-85C5-4B1E-8060-E187C0FF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A746A-B6F5-43CD-AD43-5A3C6DFD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746280" y="569880"/>
            <a:ext cx="840240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481F0-7AB1-4DCC-8044-9F81B55A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33CD3-F00E-4AA8-8D95-BCCE2983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E9AA-DA2C-4B1E-8E22-1C056E8A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1B640-8C34-4065-B461-7542C99C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C04AF-A401-40F1-BC9A-F1C1CC9D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0A24E-AAD1-45BE-AB4E-11E4F168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2EDE6-C0A1-4CA1-B7F2-54A4394EC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9424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3176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75708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9424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43176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7E71E-D7BA-422D-A76F-8E9D9069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AF59D-8449-4C91-8EFF-94FE34A58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D5663-1BFE-4751-839A-1AECADA2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E8C78-0CD4-4FD7-B44D-C8CFF43B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E634C-A3A9-47FC-A50A-9AD5BF63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3A89F-6996-4A65-8320-A28D9BB8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78F3-64F1-4CA5-9407-8AC87BC9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746280" y="569880"/>
            <a:ext cx="840240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799DF-61F0-40E9-BB6B-0A0CD891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093C6-D4A9-4CFF-ABFB-2459BA04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1CFDC-4337-49D4-8F08-85DA36BF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6C52D-A151-46BE-8285-E462D76C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6BB6B-EB8E-46BE-8254-87D1411E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CD0E7-4BFF-4CAC-B308-C77510CED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59424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43176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75708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59424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43176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0794D-7B3F-4981-8146-4EC23FC78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4920D-604B-4B21-98A6-68172F1B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06891-455C-4744-A8FB-D0410EE4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A2356-B307-45A6-B303-80E6201F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0"/>
            <a:ext cx="9906120" cy="6858000"/>
            <a:chOff x="0" y="0"/>
            <a:chExt cx="990612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906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906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90600" y="616104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384360" y="616104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2440" y="61610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6491-8BE6-4078-BDA5-D8E7D2B32594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Rectangle 6"/>
          <p:cNvGrpSpPr/>
          <p:nvPr/>
        </p:nvGrpSpPr>
        <p:grpSpPr>
          <a:xfrm>
            <a:off x="0" y="0"/>
            <a:ext cx="9906120" cy="6858000"/>
            <a:chOff x="0" y="0"/>
            <a:chExt cx="9906120" cy="6858000"/>
          </a:xfrm>
        </p:grpSpPr>
        <p:pic>
          <p:nvPicPr>
            <p:cNvPr id="42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906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0" y="0"/>
              <a:ext cx="9906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8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0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C199-9BC1-42BC-AE3F-275FF0D92CC9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Rectangle 6"/>
          <p:cNvGrpSpPr/>
          <p:nvPr/>
        </p:nvGrpSpPr>
        <p:grpSpPr>
          <a:xfrm>
            <a:off x="0" y="0"/>
            <a:ext cx="9906120" cy="6858000"/>
            <a:chOff x="0" y="0"/>
            <a:chExt cx="9906120" cy="6858000"/>
          </a:xfrm>
        </p:grpSpPr>
        <p:pic>
          <p:nvPicPr>
            <p:cNvPr id="46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906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0" y="0"/>
              <a:ext cx="9906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16C2-9A29-4CA5-8AFC-BB776F28F490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Group 8" descr=""/>
          <p:cNvPicPr/>
          <p:nvPr/>
        </p:nvPicPr>
        <p:blipFill>
          <a:blip r:embed="rId4"/>
          <a:stretch/>
        </p:blipFill>
        <p:spPr>
          <a:xfrm>
            <a:off x="1249200" y="2627280"/>
            <a:ext cx="7431120" cy="1590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e9c6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ece9c6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90600" y="616104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384360" y="616104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192440" y="61610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787B-1C4E-419A-ABBF-B5DD5F9CE07F}" type="slidenum">
              <a:rPr b="0" lang="en-US" sz="1200" spc="-1" strike="noStrike">
                <a:solidFill>
                  <a:srgbClr val="ece9c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6"/>
          <p:cNvGrpSpPr/>
          <p:nvPr/>
        </p:nvGrpSpPr>
        <p:grpSpPr>
          <a:xfrm>
            <a:off x="0" y="0"/>
            <a:ext cx="9906120" cy="6858000"/>
            <a:chOff x="0" y="0"/>
            <a:chExt cx="9906120" cy="6858000"/>
          </a:xfrm>
        </p:grpSpPr>
        <p:pic>
          <p:nvPicPr>
            <p:cNvPr id="88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906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0"/>
              <a:ext cx="9906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7"/>
          <p:cNvGrpSpPr/>
          <p:nvPr/>
        </p:nvGrpSpPr>
        <p:grpSpPr>
          <a:xfrm>
            <a:off x="1269720" y="1392120"/>
            <a:ext cx="7343640" cy="916920"/>
            <a:chOff x="1269720" y="1392120"/>
            <a:chExt cx="7343640" cy="916920"/>
          </a:xfrm>
        </p:grpSpPr>
        <p:sp>
          <p:nvSpPr>
            <p:cNvPr id="91" name="TextBox 8"/>
            <p:cNvSpPr/>
            <p:nvPr/>
          </p:nvSpPr>
          <p:spPr>
            <a:xfrm>
              <a:off x="465336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Straight Connector 9"/>
            <p:cNvSpPr/>
            <p:nvPr/>
          </p:nvSpPr>
          <p:spPr>
            <a:xfrm flipH="1" flipV="1">
              <a:off x="1269720" y="1936800"/>
              <a:ext cx="337932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Straight Connector 10"/>
            <p:cNvSpPr/>
            <p:nvPr/>
          </p:nvSpPr>
          <p:spPr>
            <a:xfrm flipH="1" flipV="1">
              <a:off x="5234040" y="1933920"/>
              <a:ext cx="337932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90600" y="616104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384360" y="616104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192440" y="61610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F3F1-839B-4C0D-967D-3775A9BB2FF8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Rectangle 6"/>
          <p:cNvGrpSpPr/>
          <p:nvPr/>
        </p:nvGrpSpPr>
        <p:grpSpPr>
          <a:xfrm>
            <a:off x="0" y="0"/>
            <a:ext cx="9906120" cy="6858000"/>
            <a:chOff x="0" y="0"/>
            <a:chExt cx="9906120" cy="6858000"/>
          </a:xfrm>
        </p:grpSpPr>
        <p:pic>
          <p:nvPicPr>
            <p:cNvPr id="13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906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0" y="0"/>
              <a:ext cx="9906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Picture 7" descr="CoverOverlay.png"/>
          <p:cNvPicPr/>
          <p:nvPr/>
        </p:nvPicPr>
        <p:blipFill>
          <a:blip r:embed="rId4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"/>
          <p:cNvGrpSpPr/>
          <p:nvPr/>
        </p:nvGrpSpPr>
        <p:grpSpPr>
          <a:xfrm>
            <a:off x="1269720" y="2887560"/>
            <a:ext cx="7343640" cy="916920"/>
            <a:chOff x="1269720" y="2887560"/>
            <a:chExt cx="7343640" cy="916920"/>
          </a:xfrm>
        </p:grpSpPr>
        <p:sp>
          <p:nvSpPr>
            <p:cNvPr id="140" name="TextBox 9"/>
            <p:cNvSpPr/>
            <p:nvPr/>
          </p:nvSpPr>
          <p:spPr>
            <a:xfrm>
              <a:off x="4653360" y="288756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Straight Connector 10"/>
            <p:cNvSpPr/>
            <p:nvPr/>
          </p:nvSpPr>
          <p:spPr>
            <a:xfrm flipH="1" flipV="1">
              <a:off x="1269720" y="3432240"/>
              <a:ext cx="337932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Straight Connector 11"/>
            <p:cNvSpPr/>
            <p:nvPr/>
          </p:nvSpPr>
          <p:spPr>
            <a:xfrm flipH="1" flipV="1">
              <a:off x="5234040" y="3434040"/>
              <a:ext cx="337932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90600" y="616104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384360" y="616104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7192440" y="61610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8069-1202-4190-A95E-752395AE63B3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6"/>
          <p:cNvGrpSpPr/>
          <p:nvPr/>
        </p:nvGrpSpPr>
        <p:grpSpPr>
          <a:xfrm>
            <a:off x="0" y="0"/>
            <a:ext cx="9906120" cy="6858000"/>
            <a:chOff x="0" y="0"/>
            <a:chExt cx="9906120" cy="6858000"/>
          </a:xfrm>
        </p:grpSpPr>
        <p:pic>
          <p:nvPicPr>
            <p:cNvPr id="18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906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0"/>
              <a:ext cx="9906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7"/>
          <p:cNvGrpSpPr/>
          <p:nvPr/>
        </p:nvGrpSpPr>
        <p:grpSpPr>
          <a:xfrm>
            <a:off x="1269720" y="1392120"/>
            <a:ext cx="7343640" cy="916920"/>
            <a:chOff x="1269720" y="1392120"/>
            <a:chExt cx="7343640" cy="916920"/>
          </a:xfrm>
        </p:grpSpPr>
        <p:sp>
          <p:nvSpPr>
            <p:cNvPr id="188" name="TextBox 8"/>
            <p:cNvSpPr/>
            <p:nvPr/>
          </p:nvSpPr>
          <p:spPr>
            <a:xfrm>
              <a:off x="465336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Straight Connector 9"/>
            <p:cNvSpPr/>
            <p:nvPr/>
          </p:nvSpPr>
          <p:spPr>
            <a:xfrm flipH="1" flipV="1">
              <a:off x="1269720" y="1936800"/>
              <a:ext cx="337932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0"/>
            <p:cNvSpPr/>
            <p:nvPr/>
          </p:nvSpPr>
          <p:spPr>
            <a:xfrm flipH="1" flipV="1">
              <a:off x="5234040" y="1933920"/>
              <a:ext cx="337932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390600" y="616104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384360" y="616104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7192440" y="61610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B16C-8902-44DB-8B55-D696513C3273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Rectangle 6"/>
          <p:cNvGrpSpPr/>
          <p:nvPr/>
        </p:nvGrpSpPr>
        <p:grpSpPr>
          <a:xfrm>
            <a:off x="0" y="0"/>
            <a:ext cx="9906120" cy="6858000"/>
            <a:chOff x="0" y="0"/>
            <a:chExt cx="9906120" cy="6858000"/>
          </a:xfrm>
        </p:grpSpPr>
        <p:pic>
          <p:nvPicPr>
            <p:cNvPr id="23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906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0" y="0"/>
              <a:ext cx="9906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7"/>
          <p:cNvGrpSpPr/>
          <p:nvPr/>
        </p:nvGrpSpPr>
        <p:grpSpPr>
          <a:xfrm>
            <a:off x="1269720" y="1392120"/>
            <a:ext cx="7343640" cy="916920"/>
            <a:chOff x="1269720" y="1392120"/>
            <a:chExt cx="7343640" cy="916920"/>
          </a:xfrm>
        </p:grpSpPr>
        <p:sp>
          <p:nvSpPr>
            <p:cNvPr id="236" name="TextBox 8"/>
            <p:cNvSpPr/>
            <p:nvPr/>
          </p:nvSpPr>
          <p:spPr>
            <a:xfrm>
              <a:off x="465336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Straight Connector 9"/>
            <p:cNvSpPr/>
            <p:nvPr/>
          </p:nvSpPr>
          <p:spPr>
            <a:xfrm flipH="1" flipV="1">
              <a:off x="1269720" y="1936800"/>
              <a:ext cx="337932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Straight Connector 10"/>
            <p:cNvSpPr/>
            <p:nvPr/>
          </p:nvSpPr>
          <p:spPr>
            <a:xfrm flipH="1" flipV="1">
              <a:off x="5234040" y="1933920"/>
              <a:ext cx="337932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390600" y="616104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384360" y="616104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7192440" y="61610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D6C0-7659-469D-A3C9-C08B974EA1A9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Rectangle 6"/>
          <p:cNvGrpSpPr/>
          <p:nvPr/>
        </p:nvGrpSpPr>
        <p:grpSpPr>
          <a:xfrm>
            <a:off x="0" y="0"/>
            <a:ext cx="9906120" cy="6858000"/>
            <a:chOff x="0" y="0"/>
            <a:chExt cx="9906120" cy="6858000"/>
          </a:xfrm>
        </p:grpSpPr>
        <p:pic>
          <p:nvPicPr>
            <p:cNvPr id="28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906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0" y="0"/>
              <a:ext cx="9906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7"/>
          <p:cNvGrpSpPr/>
          <p:nvPr/>
        </p:nvGrpSpPr>
        <p:grpSpPr>
          <a:xfrm>
            <a:off x="1269720" y="1392120"/>
            <a:ext cx="7343640" cy="916920"/>
            <a:chOff x="1269720" y="1392120"/>
            <a:chExt cx="7343640" cy="916920"/>
          </a:xfrm>
        </p:grpSpPr>
        <p:sp>
          <p:nvSpPr>
            <p:cNvPr id="284" name="TextBox 8"/>
            <p:cNvSpPr/>
            <p:nvPr/>
          </p:nvSpPr>
          <p:spPr>
            <a:xfrm>
              <a:off x="465336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Straight Connector 9"/>
            <p:cNvSpPr/>
            <p:nvPr/>
          </p:nvSpPr>
          <p:spPr>
            <a:xfrm flipH="1" flipV="1">
              <a:off x="1269720" y="1936800"/>
              <a:ext cx="337932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Straight Connector 10"/>
            <p:cNvSpPr/>
            <p:nvPr/>
          </p:nvSpPr>
          <p:spPr>
            <a:xfrm flipH="1" flipV="1">
              <a:off x="5234040" y="1933920"/>
              <a:ext cx="337932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390600" y="616104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384360" y="616104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7192440" y="61610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4FBC-9A88-437E-9C9F-1BFDD944DD1B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Rectangle 6"/>
          <p:cNvGrpSpPr/>
          <p:nvPr/>
        </p:nvGrpSpPr>
        <p:grpSpPr>
          <a:xfrm>
            <a:off x="0" y="0"/>
            <a:ext cx="9906120" cy="6858000"/>
            <a:chOff x="0" y="0"/>
            <a:chExt cx="9906120" cy="6858000"/>
          </a:xfrm>
        </p:grpSpPr>
        <p:pic>
          <p:nvPicPr>
            <p:cNvPr id="32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906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0" y="0"/>
              <a:ext cx="9906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7"/>
          <p:cNvGrpSpPr/>
          <p:nvPr/>
        </p:nvGrpSpPr>
        <p:grpSpPr>
          <a:xfrm>
            <a:off x="1269720" y="1392120"/>
            <a:ext cx="7343640" cy="916920"/>
            <a:chOff x="1269720" y="1392120"/>
            <a:chExt cx="7343640" cy="916920"/>
          </a:xfrm>
        </p:grpSpPr>
        <p:sp>
          <p:nvSpPr>
            <p:cNvPr id="332" name="TextBox 8"/>
            <p:cNvSpPr/>
            <p:nvPr/>
          </p:nvSpPr>
          <p:spPr>
            <a:xfrm>
              <a:off x="465336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Straight Connector 9"/>
            <p:cNvSpPr/>
            <p:nvPr/>
          </p:nvSpPr>
          <p:spPr>
            <a:xfrm flipH="1" flipV="1">
              <a:off x="1269720" y="1936800"/>
              <a:ext cx="337932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Straight Connector 10"/>
            <p:cNvSpPr/>
            <p:nvPr/>
          </p:nvSpPr>
          <p:spPr>
            <a:xfrm flipH="1" flipV="1">
              <a:off x="5234040" y="1933920"/>
              <a:ext cx="337932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390600" y="616104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3384360" y="616104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7192440" y="61610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70E9-0705-4A90-B42C-67F0B7D5FB92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Rectangle 6"/>
          <p:cNvGrpSpPr/>
          <p:nvPr/>
        </p:nvGrpSpPr>
        <p:grpSpPr>
          <a:xfrm>
            <a:off x="0" y="0"/>
            <a:ext cx="9906120" cy="6858000"/>
            <a:chOff x="0" y="0"/>
            <a:chExt cx="9906120" cy="6858000"/>
          </a:xfrm>
        </p:grpSpPr>
        <p:pic>
          <p:nvPicPr>
            <p:cNvPr id="37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906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0" y="0"/>
              <a:ext cx="9906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7"/>
          <p:cNvGrpSpPr/>
          <p:nvPr/>
        </p:nvGrpSpPr>
        <p:grpSpPr>
          <a:xfrm>
            <a:off x="6747480" y="601560"/>
            <a:ext cx="916920" cy="5481720"/>
            <a:chOff x="6747480" y="601560"/>
            <a:chExt cx="916920" cy="5481720"/>
          </a:xfrm>
        </p:grpSpPr>
        <p:sp>
          <p:nvSpPr>
            <p:cNvPr id="380" name="TextBox 8"/>
            <p:cNvSpPr/>
            <p:nvPr/>
          </p:nvSpPr>
          <p:spPr>
            <a:xfrm rot="5400000">
              <a:off x="6928920" y="291420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Straight Connector 9"/>
            <p:cNvSpPr/>
            <p:nvPr/>
          </p:nvSpPr>
          <p:spPr>
            <a:xfrm flipV="1">
              <a:off x="7112880" y="601560"/>
              <a:ext cx="2520" cy="246960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Straight Connector 10"/>
            <p:cNvSpPr/>
            <p:nvPr/>
          </p:nvSpPr>
          <p:spPr>
            <a:xfrm flipV="1">
              <a:off x="7110720" y="3613680"/>
              <a:ext cx="1440" cy="246960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390600" y="616104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384360" y="616104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7192440" y="61610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65F7-9B52-484B-BBEA-EEB48DE221DD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Rectangle 2" descr=""/>
          <p:cNvPicPr/>
          <p:nvPr/>
        </p:nvPicPr>
        <p:blipFill>
          <a:blip r:embed="rId1"/>
          <a:stretch/>
        </p:blipFill>
        <p:spPr>
          <a:xfrm>
            <a:off x="450720" y="914400"/>
            <a:ext cx="8491680" cy="185256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1485720" y="3766680"/>
            <a:ext cx="69339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M. Tahir Nadee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epartment </a:t>
            </a:r>
            <a:r>
              <a:rPr b="0" i="1" lang="en-US" sz="4800" spc="-1" strike="noStrike">
                <a:solidFill>
                  <a:srgbClr val="ffffff"/>
                </a:solidFill>
                <a:latin typeface="Monotype Corsiva"/>
              </a:rPr>
              <a:t>of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Educ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895d1d"/>
                </a:solidFill>
                <a:latin typeface="Book Antiqua"/>
              </a:rPr>
              <a:t>2004-05 (The Islamia University Bahawalpur)</a:t>
            </a:r>
            <a:br>
              <a:rPr sz="4900"/>
            </a:br>
            <a:endParaRPr b="0" lang="en-US" sz="4900" spc="-1" strike="noStrike">
              <a:solidFill>
                <a:srgbClr val="895d1d"/>
              </a:solidFill>
              <a:latin typeface="Book Antiqua"/>
            </a:endParaRPr>
          </a:p>
        </p:txBody>
      </p:sp>
      <p:graphicFrame>
        <p:nvGraphicFramePr>
          <p:cNvPr id="534" name="Object 8"/>
          <p:cNvGraphicFramePr/>
          <p:nvPr/>
        </p:nvGraphicFramePr>
        <p:xfrm>
          <a:off x="1905120" y="183024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83024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alculate your learning time at departmental level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Activity: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Not Quite fi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o say wrong thing at the wrong time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Reluctant to participate 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Access to Learning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How you can help students to have something to say?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Activity: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00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262626"/>
                </a:solidFill>
                <a:uFillTx/>
                <a:latin typeface="Book Antiqua"/>
              </a:rPr>
              <a:t>Procedures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361080" indent="-270000">
              <a:lnSpc>
                <a:spcPct val="7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Administrative routines, such as taking attendance.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361080" indent="-270000">
              <a:lnSpc>
                <a:spcPct val="7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Student movement, such as entering and leaving the room.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361080" indent="-270000">
              <a:lnSpc>
                <a:spcPct val="7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Routines for accomplishing assignments.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361080" indent="-270000">
              <a:lnSpc>
                <a:spcPct val="7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Interactions between teacher and student, such as how to get the teacher’s attention when help is needed.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361080" indent="-270000">
              <a:lnSpc>
                <a:spcPct val="7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Talk among students. Such as giving help or socializing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361080" indent="-270000">
              <a:lnSpc>
                <a:spcPct val="7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Individual work procedures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895d1d"/>
                </a:solidFill>
                <a:latin typeface="Book Antiqua"/>
              </a:rPr>
              <a:t>Management for Self Management</a:t>
            </a:r>
            <a:r>
              <a:rPr b="0" lang="en-US" sz="4900" spc="-1" strike="noStrike">
                <a:solidFill>
                  <a:srgbClr val="895d1d"/>
                </a:solidFill>
                <a:latin typeface="Book Antiqua"/>
              </a:rPr>
              <a:t> </a:t>
            </a:r>
            <a:endParaRPr b="0" lang="en-US" sz="49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Admission &amp; Examination rules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assroom rules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Attendance rules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Participation rules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Presentations rules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Behavior rules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minar rules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 u="sng">
                <a:solidFill>
                  <a:srgbClr val="895d1d"/>
                </a:solidFill>
                <a:uFillTx/>
                <a:latin typeface="Book Antiqua"/>
              </a:rPr>
              <a:t>Rules</a:t>
            </a:r>
            <a:br>
              <a:rPr sz="4900"/>
            </a:br>
            <a:endParaRPr b="0" lang="en-US" sz="49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>
              <a:lnSpc>
                <a:spcPct val="80000"/>
              </a:lnSpc>
              <a:spcBef>
                <a:spcPts val="7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Book Antiqua"/>
              </a:rPr>
              <a:t>Explanation </a:t>
            </a:r>
            <a:endParaRPr b="0" lang="en-US" sz="28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272880">
              <a:lnSpc>
                <a:spcPct val="80000"/>
              </a:lnSpc>
              <a:spcBef>
                <a:spcPts val="7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Book Antiqua"/>
              </a:rPr>
              <a:t>Expression of disappointment</a:t>
            </a:r>
            <a:endParaRPr b="0" lang="en-US" sz="28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272880">
              <a:lnSpc>
                <a:spcPct val="80000"/>
              </a:lnSpc>
              <a:spcBef>
                <a:spcPts val="7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Book Antiqua"/>
              </a:rPr>
              <a:t>Loss of privileges </a:t>
            </a:r>
            <a:endParaRPr b="0" lang="en-US" sz="28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272880">
              <a:lnSpc>
                <a:spcPct val="80000"/>
              </a:lnSpc>
              <a:spcBef>
                <a:spcPts val="7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Book Antiqua"/>
              </a:rPr>
              <a:t>Incentives to other students </a:t>
            </a:r>
            <a:endParaRPr b="0" lang="en-US" sz="28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272880">
              <a:lnSpc>
                <a:spcPct val="80000"/>
              </a:lnSpc>
              <a:spcBef>
                <a:spcPts val="7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Book Antiqua"/>
              </a:rPr>
              <a:t>Written reflection</a:t>
            </a:r>
            <a:endParaRPr b="0" lang="en-US" sz="28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272880">
              <a:lnSpc>
                <a:spcPct val="80000"/>
              </a:lnSpc>
              <a:spcBef>
                <a:spcPts val="7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Book Antiqua"/>
              </a:rPr>
              <a:t>Fine</a:t>
            </a:r>
            <a:endParaRPr b="0" lang="en-US" sz="28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272880">
              <a:lnSpc>
                <a:spcPct val="80000"/>
              </a:lnSpc>
              <a:spcBef>
                <a:spcPts val="7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Book Antiqua"/>
              </a:rPr>
              <a:t>Detention </a:t>
            </a:r>
            <a:endParaRPr b="0" lang="en-US" sz="28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272880">
              <a:lnSpc>
                <a:spcPct val="80000"/>
              </a:lnSpc>
              <a:spcBef>
                <a:spcPts val="7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Book Antiqua"/>
              </a:rPr>
              <a:t>Visit to Incharge Office</a:t>
            </a:r>
            <a:endParaRPr b="0" lang="en-US" sz="28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272880">
              <a:lnSpc>
                <a:spcPct val="80000"/>
              </a:lnSpc>
              <a:spcBef>
                <a:spcPts val="7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Book Antiqua"/>
              </a:rPr>
              <a:t>Contact with Parents</a:t>
            </a:r>
            <a:endParaRPr b="0" lang="en-US" sz="28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95d1d"/>
                </a:solidFill>
                <a:uFillTx/>
                <a:latin typeface="Book Antiqua"/>
              </a:rPr>
              <a:t>Punishments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0000">
              <a:lnSpc>
                <a:spcPct val="70000"/>
              </a:lnSpc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Make sure rules are workable and not too complicated</a:t>
            </a:r>
            <a:r>
              <a:rPr b="0" lang="en-US" sz="2200" spc="-1" strike="noStrike">
                <a:solidFill>
                  <a:srgbClr val="262626"/>
                </a:solidFill>
                <a:latin typeface="Book Antiqua"/>
              </a:rPr>
              <a:t> 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61080" indent="-270000">
              <a:lnSpc>
                <a:spcPct val="7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Establish rules that clearly specify requirements 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361080" indent="-270000">
              <a:lnSpc>
                <a:spcPct val="7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Offer rewards that makes more positive efforts 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361080" indent="-270000">
              <a:lnSpc>
                <a:spcPct val="7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Delay the discussion of the situation until you and the students involved, are calmer and more objective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361080" indent="-270000">
              <a:lnSpc>
                <a:spcPct val="7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Impose penalties privately.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361080" indent="-270000">
              <a:lnSpc>
                <a:spcPct val="7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After imposing a penalty, reestablish a positive relationship with the students immediately.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361080" indent="-270000">
              <a:lnSpc>
                <a:spcPct val="7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Set up graded list of penalties that will fit many occasions.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895d1d"/>
                </a:solidFill>
                <a:latin typeface="Book Antiqua"/>
              </a:rPr>
              <a:t>Dealing with Discipline Problems</a:t>
            </a:r>
            <a:endParaRPr b="0" lang="en-US" sz="49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533160" y="3352680"/>
            <a:ext cx="8915400" cy="277344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368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THANKS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echniques used to maintain a healthy learning environment, relatively free of behavior problems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95d1d"/>
                </a:solidFill>
                <a:latin typeface="Book Antiqua"/>
              </a:rPr>
              <a:t>Classroom Managemen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Reasons for getting enrol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Motivation 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Intellectual ability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Reactions to the personality of the teacher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nse of confidence and independence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Physical and emotional health conditions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5d1d"/>
                </a:solidFill>
                <a:latin typeface="Book Antiqua"/>
              </a:rPr>
              <a:t>An effective teacher knows well about the learners. Different kinds of information necessary for the teacher are:</a:t>
            </a:r>
            <a:endParaRPr b="0" lang="en-US" sz="2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How you can describe your students?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Activity: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Classrooms are multidimensional : Different goals, 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Preferences abilities , Task People, 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Time pressure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597240" indent="-597240">
              <a:lnSpc>
                <a:spcPct val="8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Simultaneity: Exampling , Discipline, Question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597240" indent="-597240">
              <a:lnSpc>
                <a:spcPct val="8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Immediacy: 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Pace of Classrooms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597240" indent="-597240">
              <a:lnSpc>
                <a:spcPct val="8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Unpredictable: No Light, Computer problem, 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Projector problem, Absent students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597240" indent="-597240">
              <a:lnSpc>
                <a:spcPct val="8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Public: 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Handling problem before people,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597240" indent="-597240">
              <a:lnSpc>
                <a:spcPct val="8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Histories: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597240" indent="-597240">
              <a:lnSpc>
                <a:spcPct val="8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95d1d"/>
                </a:solidFill>
                <a:latin typeface="Book Antiqua"/>
              </a:rPr>
              <a:t>The need for organization</a:t>
            </a: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 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What type of difficulty is more common in your Department?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Activity: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e aim of classroom management is to maintain a positive, productive learning environment. There are at least three reasons, why management is important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609480" indent="-609480">
              <a:spcBef>
                <a:spcPts val="601"/>
              </a:spcBef>
              <a:buClr>
                <a:srgbClr val="873624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More Time for Learning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609480" indent="-609480">
              <a:spcBef>
                <a:spcPts val="601"/>
              </a:spcBef>
              <a:buClr>
                <a:srgbClr val="873624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Access to Learning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609480" indent="-609480">
              <a:spcBef>
                <a:spcPts val="601"/>
              </a:spcBef>
              <a:buClr>
                <a:srgbClr val="873624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Management for Self Managemen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895d1d"/>
                </a:solidFill>
                <a:latin typeface="Book Antiqua"/>
              </a:rPr>
              <a:t>The Goals of Classroom Management</a:t>
            </a:r>
            <a:endParaRPr b="0" lang="en-US" sz="49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Allocated time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Engaged time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ime on task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Academic learning time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95d1d"/>
                </a:solidFill>
                <a:latin typeface="Book Antiqua"/>
              </a:rPr>
              <a:t>More Time for Learning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77440" y="-22860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95d1d"/>
                </a:solidFill>
                <a:latin typeface="Book Antiqua"/>
              </a:rPr>
              <a:t>1993 (Mignano)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394000" y="1523520"/>
            <a:ext cx="610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ime Managemen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30" name="Rectangle 16"/>
          <p:cNvSpPr/>
          <p:nvPr/>
        </p:nvSpPr>
        <p:spPr>
          <a:xfrm>
            <a:off x="4118040" y="6850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Object 15"/>
          <p:cNvGraphicFramePr/>
          <p:nvPr/>
        </p:nvGraphicFramePr>
        <p:xfrm>
          <a:off x="2478240" y="2286000"/>
          <a:ext cx="581652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8240" y="2286000"/>
                    <a:ext cx="581652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22:30:47Z</dcterms:created>
  <dc:creator>Tahir</dc:creator>
  <dc:description/>
  <dc:language>en-US</dc:language>
  <cp:lastModifiedBy>SaaD</cp:lastModifiedBy>
  <dcterms:modified xsi:type="dcterms:W3CDTF">2019-12-18T03:56:18Z</dcterms:modified>
  <cp:revision>9</cp:revision>
  <dc:subject/>
  <dc:title>Classroom Management</dc:title>
</cp:coreProperties>
</file>